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B47-D933-4091-93BF-56DE2F4A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688-37C9-4B8C-AAB4-734BC88B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BDC-6DDB-40E4-971D-CEBD1C4E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491-EABC-42CA-91BB-A20B3456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5F37-D264-425C-941E-C518F69E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3241-2C89-4EC7-AB73-314549F6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29CD-4C2D-4A49-94A5-08CADF0F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068B-FC81-439A-9820-83D2A2F1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8846-28B1-4639-9BFB-5F7E73ED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B621-4AFB-4C49-9C8C-58814FBB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7168-893F-484E-9ADE-086BC3DC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E12-BF50-4894-9BCF-D5DCD613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B728-96F3-4EB7-B468-9B6A854B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4003-B4F2-47CB-8A44-1789D55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0F7F-4D57-4911-8BE4-CA2519B4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F6F8-C289-41E9-A342-6C27F532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9D20-C890-48D7-A456-81A78DF3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F7FA7-50E4-4AB3-97C9-9A26834E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A945-AF16-4E17-A412-E857D09B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87F4-114E-4514-B83E-9B043E0D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8F4A-D3A6-4EA4-B5CC-049F9C9E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BD6A9-B444-4039-87F3-1BB1973F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DE3-3A76-4507-8EEA-517213BB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D84F0-89F1-4125-BD83-8F68CA65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046B-6A00-4F13-9CAE-89CCD4F3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7FB9-84F5-445D-9AF4-2F5D85D0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F561-95F3-4637-936E-806C448A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DC67-7F92-4C20-A94F-D8EADD25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707A-71C3-49C4-9AB4-A3EEA582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3CE0-189D-4512-B13E-1D6B998E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97B8-827B-405D-B767-0F357770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E5E61-C5E5-4293-A99D-AB2F9B85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8EBE-B87D-4855-9CBB-BA04D8AC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A2D-DBB2-4B10-A5B0-D1C2A1E2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2B1CC-3247-4615-A2D6-08A1D2C8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C401-59AF-4891-BB68-36163251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CDAEF-4E95-4E66-A18B-2A9BB90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2410F-4D23-4288-82BE-16D07309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9056-4A56-42DD-851D-A76564AA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160D9-0CE5-47A0-BFE7-4A723199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ACE1-B938-45BE-A7A8-68ADA96A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FE3D-7D86-452D-96A4-99B96C1B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77509-B35B-4FBF-AF24-B0D31D1D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AD20-B32D-4209-A024-DC36DF19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C6E-79F5-4248-9DB1-E7B4FF04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7AC82-2C05-45EB-B85D-91605137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5291D-7034-4A87-B8E6-1FF980EE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B3997-CDE8-4F46-AF23-EF67255D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F7AC9-D32B-4C87-9CF3-E62F8F24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C1354-2957-422B-9CD6-8C8635D0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CC71E-B8BA-428F-8E0F-ECF4C504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B5913-82D8-4AAE-9B95-D6A47D52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1D9A-EBE8-459D-9BBA-F0EBE17A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FF4B-12D1-4087-9222-DA912498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499A5-3EBD-46EE-B736-6B8CD5BE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37D-1022-4AFE-BB36-EA4F9AAE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B465A-27DE-4882-A0B4-8133B5BA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4CB80-77D0-4879-9711-C739BE32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0E214-0E12-4FFE-9552-67F0DCA4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CA8FA-1C15-4A91-8235-43130469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1EF58-8FB7-4F46-93B7-5D9C468F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491F3-1DBD-41F0-A8AF-1213C82A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441D4-4725-410C-BDBD-32FF2B4E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AA4F5-F169-4201-97B6-9EDD5787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7E65-3556-4DE2-B1DE-3371B47E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6FE0B-8B28-47DF-AD7F-3415A964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205-B046-4B28-9764-F2E90E1F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2CD3-D505-494F-89B2-4695ECFF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848AC-E04B-483E-ABAF-F1AD1469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6EA0F-2228-4217-BA8C-A2265689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ED160-67BB-439A-9A86-24F93C68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F650F-BE1D-45AB-AFC0-31472F61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C8FC4-95B6-4C9A-BDEC-A881A9C2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1B48D-EEF4-4D5C-8361-C3169177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17CB4-E979-407A-B589-B109D60E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4672D-5FFB-488F-992C-DA177577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EBAB3-A64D-469C-B911-2082E9E4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695-82FC-446D-B121-EF7777E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9119F-9A47-4058-B807-AB8943D1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0C869-0470-44B4-A150-D84B4B9D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F7902-2DE1-4CC1-BF60-BFA9BFE4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1E9A-A631-4E5F-97E6-281D269C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523D0-C015-4FB2-B6E0-68C811A1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E33-4D53-402E-8553-D4C29D6F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BD29-1632-4E27-B10F-AED016A7BC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624-2BA7-43A7-97C6-E9C5FFA54B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E189-3A58-4BA3-AFC6-CA7CF7B795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1991-0C21-450F-8D50-D25B813A86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5685-2559-4F0A-BDB0-274B10564AE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9713-1330-41E1-903E-C74D9071738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015B-0141-4BCB-A35F-4078ED17F53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2080" y="2356920"/>
            <a:ext cx="5997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СОЮЗЫ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СОЧИНИТЕЛЬНЫЕ И                                  ПОДЧИНИТЕЛЬ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499920" y="5085720"/>
            <a:ext cx="564372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Вариант 1           Вариант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Когда мы вернулись в деревню, уже все спа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Веет теплый ветер, и легкий пар клубится у ре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Все время доносился отдаленный рокот, а земля под ногами вздрагива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Наталья Саввишна никак не могла понять, что Карл Иванович уех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На левом фланге, куда звал меня Бурцев, происходило  жаркое дел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По улицам бродили только куры, да изредка выла соба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Мы пошли по лосиному следу и вскоре увидели, что дорога эта ведет в боло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Ребята поднялись на холм, где находился их лаге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Солнце уже зашло, и по низким луговым местам все затопил тума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Лесник, у которого мы остановились на ночлег, рассказал нам много нового об этих мес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(Когда)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да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где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которого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работаем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Если хочешь много знать, надо мало сп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 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Делу время, а потехе час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еразумного учить, что в бездонную бочку воду ли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Не на пользу книги читать, коль одни вершки глот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Корень учения горек, да плод его слад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17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Вдруг среди шорохов и всплесков послышались тревожащие своей необыочностью            звуки. 2. Было похоже, что где-то совсем близко играла крошечная скрипка.3. Звуки мелодии были так слабы, что порывы ветра иногда обрывали , как паутинку, эту тонкую ниточку загадочной трели. 4. Прислушавшись, я уловил закономерную связь между скрипачом и ветром: стоило ветру немного утихнуть, как скрипка переходила на более низкие ноты, звук становился густым, и в нем отчетливо  улавливался  темб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Когда же ветер усиливался, звуки забирались все выше и выше, они становились острыми, как жало, скрипка плакала и всхлипывала.6.Наконец я установил, что звуки исходили из засыпанной раковины  на гребне песчаного холмика. 7. Я осторожно взял раковину, чтобы посмотреть повнимательнее, но ничего особенного не нашел. 8. Я положил ее на прежнее место и приготовился слушать, но раковина-музыкант молчал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охоже, что она рассердилась за то, что ее бесцеремонно потревожили, и ожидала, пока я снова уй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ите тип и стиль речи. Докажите свое мн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Из предложений 5-8 выпишите слово (слова) с чередующейся гласной в корне сло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Из предложения 6 выпишите слово, соответствующее орфограмее правописание      приставок на з-\с-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Из предложений 1-4 выпишите действительное причастие настоящего време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Выпишите из текста все со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Выпишите из текста все под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Из  предложений 3-5 выпишите сравн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Найдите предложение, соответствующее схеме [   (чтобы) ] и укажите его номер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Укажите кол-во грамматических основ в 4 предложени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Забирались, полож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ход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Тревожащ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И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Что, как, когда, чтобы, п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Как паутинку, острым, как жа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.Служебня часть речи, которая служит для связи простых предложений в составе сложного, называ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ю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ед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аст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Актуализация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и речи в русском языке делятся на самостоятельные и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служебным частям речи относятся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ебная часть речи, которая служит для связи однородных членов в предложении, а также простых предложений в составе сложного – это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бывают 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Укажите неверное утвержд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чинительные и подчини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остые и соста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роизводные и непроизв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. Выберите ответ, где все слова в ряду- союз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ак, который, 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за, да, что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отому что, зато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. Укажите вариант ответа, в котором все союзы сочинитель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где, зато, так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и, однако, 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то, когда, 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. Укажите предложение, в котором союз и соединяет однородные члены 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долго не могли выбраться из леса и нам пришлось задерж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а улице сегодня сильный мороз и поездка отменя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Я вернусь и все вам расскаж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. Укажите сложносо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не могли идти дальше, потому что заблудили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икто не знал пути домой и мы долго искали доро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Наш отряд только вчера узнал, что опасность минова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7. Укажите сложнопод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огда над тайгой спустился туман, я подплыл к бере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Воробьи взметнулись стайкой и рассыпались вда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За окном было холодно и вскоре пошел сильный дож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берите из художественной литературы 10 предложений с сочинительными и подчинительными союз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равните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и пошел сне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воротился домой, но не в душную комнату, а в сад и с наслаждением ходил по дорожкам, осыпанным снежными хлоп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потому что пошел с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unga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ЧИНИТЕЛЬНЫЕ и ПОДЧИНИТЕ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И, а, но, да, зато, однако, же, то-то, или, либо, не то- не то, тоже, также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д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3204"/>
                </a:solidFill>
                <a:latin typeface="Corbel"/>
              </a:rPr>
              <a:t>Что, чтобы, потому что, оттого что, по причине того что, где, когда, затем, пока, если, если бы, коль (коли), поэтому, так как, как, словно, точно, будт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По горизонту весь день слоями лежит прозрачная мгла ( ) и в ней пропадают очертания низких бер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Вечерняя заря начинается  ( ) когда солнце уже заходит за край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ка сверкала то голубым ( ) то зеленым св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акануне выглянуло солнце ( ) но дороги еще не совсем просох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разу за шатким деревянным мостиком начинался подъем в гору ( ) с которой было видно всю окрест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луга вышел и объявил ( ) что лошади готов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пишем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ята очень устали, но работа была еще не законче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ешественники приблизились к роднику, чтобы напиться в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( чтоб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1:13:43Z</dcterms:created>
  <dc:creator>N-Book</dc:creator>
  <dc:description/>
  <dc:language>en-US</dc:language>
  <cp:lastModifiedBy>Windows 7</cp:lastModifiedBy>
  <dcterms:modified xsi:type="dcterms:W3CDTF">2013-05-07T01:36:02Z</dcterms:modified>
  <cp:revision>18</cp:revision>
  <dc:subject/>
  <dc:title>Союзы сочинительные и подчинительные</dc:title>
</cp:coreProperties>
</file>